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A8B4-525B-49BE-9655-16F06ECFC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3B8-A28C-48C7-AB12-C5E69A6B3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AC8-789A-42CA-9129-77511612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19D-4A01-4396-8EF4-F0D6A0A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D3E-9BB9-4783-89B4-9FCE39AB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BD5-8897-44B7-ADA1-1F15EDA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348-1E6B-40E6-AB3F-5D71D56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A1C-1A98-4116-8CB2-D05791F7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19B-BCBF-4FFC-B546-0115573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870-6AF1-40F8-B1F8-84697196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291-B13C-486B-9382-6F980875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C85-057B-4095-9C91-0DE2AD4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F15-22E7-43BE-AC83-D539670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0D8-F67E-437A-A783-AC30B9F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EFF-7FCB-4EDC-AB4E-16E2C87409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441-2884-42EB-ABCB-8C67A1386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Kostynyuk</cp:lastModifiedBy>
  <dcterms:modified xsi:type="dcterms:W3CDTF">2018-06-05T09:46:05Z</dcterms:modified>
  <cp:revision>40</cp:revision>
  <dc:subject/>
  <dc:title>Безопасность в в сети Интернет </dc:title>
</cp:coreProperties>
</file>